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66614E-2B5E-44BE-A378-489FCE00A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A1BD35-575E-4923-9B50-FE687DDC7B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30FC57-491C-4BCE-AE94-4A7B3B9C33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5CC3B8-C4D7-43F1-9B91-8E1242E1B3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647317-3CB8-4375-8DDD-6E17D7AB44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5AD393-78FF-4C18-83D4-0EB07D9EC9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0F3938-FC26-49DE-B6AA-B2D97D080F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E8465B-0BE4-4857-8906-8887EF0443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EEFD0E-9F39-4317-848C-1237A9716E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F0B82D-1249-4B95-ABD6-9DE796CEC4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517-650F-4829-8F73-21A9CADA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7B0-3E6A-462D-84BA-B7BA566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81F-D3C7-4DE7-98AD-9F4C4C6D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2F3-01FC-4C22-BF1F-768E3FC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B07-9714-471E-8A49-3C996433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B16-DAFC-4C2C-B234-9D33412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152-9E33-4F6F-BEB5-1AC7619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069-54F0-48B1-91D5-C3EAEDE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60E-C7C5-47F8-9BAA-1A24DCC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385-5648-4ECE-9E5E-596127A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E05-0DFE-4940-BE48-086F3D1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383-4C25-42AA-8422-46791BE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3DC-6CBE-4049-9332-F67B6C3A85E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Introduction to Eukaryotic cell struc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3640" y="2565360"/>
            <a:ext cx="815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ukaryotic cel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 of cell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 of cell structural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ces between plant and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vision of labour within a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DNA and histone proteins form chromatin. During cell division chromatin condenses to form visible chromosomes (prophase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3" descr="DNA and histone proteins are packaged into structures called chromosomes."/>
          <p:cNvPicPr/>
          <p:nvPr/>
        </p:nvPicPr>
        <p:blipFill>
          <a:blip r:embed="rId1"/>
          <a:stretch/>
        </p:blipFill>
        <p:spPr>
          <a:xfrm>
            <a:off x="1763640" y="2060640"/>
            <a:ext cx="55436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mitochondrion"/>
          <p:cNvPicPr/>
          <p:nvPr/>
        </p:nvPicPr>
        <p:blipFill>
          <a:blip r:embed="rId1"/>
          <a:stretch/>
        </p:blipFill>
        <p:spPr>
          <a:xfrm>
            <a:off x="395280" y="836640"/>
            <a:ext cx="849636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e Mitochond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50px-Mitochondria,_mammalian_lung_-_TEM"/>
          <p:cNvPicPr/>
          <p:nvPr/>
        </p:nvPicPr>
        <p:blipFill>
          <a:blip r:embed="rId1"/>
          <a:stretch/>
        </p:blipFill>
        <p:spPr>
          <a:xfrm>
            <a:off x="539640" y="2492280"/>
            <a:ext cx="3311640" cy="249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itmor4"/>
          <p:cNvPicPr/>
          <p:nvPr/>
        </p:nvPicPr>
        <p:blipFill>
          <a:blip r:embed="rId2"/>
          <a:stretch/>
        </p:blipFill>
        <p:spPr>
          <a:xfrm>
            <a:off x="4572000" y="2565360"/>
            <a:ext cx="368604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The Mitochond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e Mitochondr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pleural)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itochondr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single) are sites isolated from the rest of the cytoplasm where enzyme-catalysed reactions of respiration take pl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ir main function is to synthesis ATP (adenosine tri-phospha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organelle has a double unit membrane – the inner one being highly folded to increase surface area called the crista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inner and outer membrane are separated by a narrow fluid filled inter membrane s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interior of the mitochondria contains a fluid called the matri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 of the reactions of aerobic respiration takes place in the matrix while others on the inner membr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itochondria have their own DNA (the genes code for respiratory enzym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2"/>
          <p:cNvGrpSpPr/>
          <p:nvPr/>
        </p:nvGrpSpPr>
        <p:grpSpPr>
          <a:xfrm>
            <a:off x="611280" y="1644480"/>
            <a:ext cx="7777080" cy="4851360"/>
            <a:chOff x="611280" y="1644480"/>
            <a:chExt cx="7777080" cy="4851360"/>
          </a:xfrm>
        </p:grpSpPr>
        <p:pic>
          <p:nvPicPr>
            <p:cNvPr id="103" name="Picture 5" descr="CE232300FG0010"/>
            <p:cNvPicPr/>
            <p:nvPr/>
          </p:nvPicPr>
          <p:blipFill>
            <a:blip r:embed="rId1"/>
            <a:stretch/>
          </p:blipFill>
          <p:spPr>
            <a:xfrm>
              <a:off x="611280" y="1644480"/>
              <a:ext cx="7777080" cy="47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4878000" y="4945320"/>
              <a:ext cx="337140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Smooth Endoplasmic Reticulu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74800" y="5167440"/>
              <a:ext cx="1376280" cy="45972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808160" y="5670360"/>
              <a:ext cx="151416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Nuclear envelop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47720" y="2482920"/>
              <a:ext cx="3028680" cy="119124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Rough endoplasmic reticulu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5152680" y="2650320"/>
              <a:ext cx="323532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Transitional element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5635080" y="1755360"/>
              <a:ext cx="2409840" cy="45972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Golgi body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82960" y="52434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ugh 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SER1"/>
          <p:cNvPicPr/>
          <p:nvPr/>
        </p:nvPicPr>
        <p:blipFill>
          <a:blip r:embed="rId1"/>
          <a:stretch/>
        </p:blipFill>
        <p:spPr>
          <a:xfrm>
            <a:off x="468360" y="2781360"/>
            <a:ext cx="5715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47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re is a system of flattened membranes which form sacs in the cytoplasm of all eukaryotic cells called Endoplasmic Reticulu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 is continuous with the nuclear membrane and can link to the Golgi bo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 function is to transport substances throughout the c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fluid filled spaces between the membranes are called cistern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R encrusted with ribosomes is called Rough ER, whilst that devoid of ribosomes is smooth 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mooth ER is concerned with lipid metabolism and the manufacture of steroid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ugh ER transports proteins made by the riboso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endoplamsic"/>
          <p:cNvPicPr/>
          <p:nvPr/>
        </p:nvPicPr>
        <p:blipFill>
          <a:blip r:embed="rId1"/>
          <a:stretch/>
        </p:blipFill>
        <p:spPr>
          <a:xfrm>
            <a:off x="6084720" y="2565360"/>
            <a:ext cx="26654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ribosome"/>
          <p:cNvPicPr/>
          <p:nvPr/>
        </p:nvPicPr>
        <p:blipFill>
          <a:blip r:embed="rId1"/>
          <a:stretch/>
        </p:blipFill>
        <p:spPr>
          <a:xfrm>
            <a:off x="1042920" y="1052640"/>
            <a:ext cx="6842160" cy="47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7" descr="Graphic"/>
          <p:cNvPicPr/>
          <p:nvPr/>
        </p:nvPicPr>
        <p:blipFill>
          <a:blip r:embed="rId1"/>
          <a:stretch/>
        </p:blipFill>
        <p:spPr>
          <a:xfrm>
            <a:off x="395280" y="1778040"/>
            <a:ext cx="4968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are the sites of protein synthesis within cells and are composed of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ibosomal RN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tei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ibosomes are synthesised in a region of the nucleus called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ucleolu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be attached to the ER or free-floating in eukaryotic cells but only free-floating in prokaryotic cel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tached ribosomes make proteins used outside the c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ree-floating ribosomes make protein for use inside the c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ukaryotic ce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eukaryotic cell structure is found in all plants, animals, fungi and protoc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mplex structure allows for the specialisation of cells to perform certain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th the specialisation of function, cells can form tissues which can work together to form an or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nce eukaryotic cells can form complex multicellular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image001"/>
          <p:cNvPicPr/>
          <p:nvPr/>
        </p:nvPicPr>
        <p:blipFill>
          <a:blip r:embed="rId1"/>
          <a:stretch/>
        </p:blipFill>
        <p:spPr>
          <a:xfrm>
            <a:off x="1619280" y="1341360"/>
            <a:ext cx="5761080" cy="5284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Golgi B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Golgi B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5" descr="golgia"/>
          <p:cNvPicPr/>
          <p:nvPr/>
        </p:nvPicPr>
        <p:blipFill>
          <a:blip r:embed="rId1"/>
          <a:stretch/>
        </p:blipFill>
        <p:spPr>
          <a:xfrm>
            <a:off x="1619280" y="1720800"/>
            <a:ext cx="64087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835280" y="260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Action of Lysos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0" descr="101fig_lysosome"/>
          <p:cNvPicPr/>
          <p:nvPr/>
        </p:nvPicPr>
        <p:blipFill>
          <a:blip r:embed="rId1"/>
          <a:stretch/>
        </p:blipFill>
        <p:spPr>
          <a:xfrm>
            <a:off x="1116000" y="128736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Lysos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Picture 5" descr="golgilys"/>
          <p:cNvPicPr/>
          <p:nvPr/>
        </p:nvPicPr>
        <p:blipFill>
          <a:blip r:embed="rId1"/>
          <a:stretch/>
        </p:blipFill>
        <p:spPr>
          <a:xfrm>
            <a:off x="2050920" y="1892160"/>
            <a:ext cx="52578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Lysos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rger vesicles surrounded by a single unit membrane - formed from the Golgi bod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ontain hydrolytic enzymes (proteases and lipases) to digest the contents of food vacuoles with which they fuse.  (Phagocyto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also fuse with and digest worn out cellular organelles. The entire cell can be destroyed on occasions when the lysosomes break down (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uicide bag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centriolesfigure1"/>
          <p:cNvPicPr/>
          <p:nvPr/>
        </p:nvPicPr>
        <p:blipFill>
          <a:blip r:embed="rId1"/>
          <a:stretch/>
        </p:blipFill>
        <p:spPr>
          <a:xfrm>
            <a:off x="684360" y="836640"/>
            <a:ext cx="4897440" cy="354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entrpr"/>
          <p:cNvPicPr/>
          <p:nvPr/>
        </p:nvPicPr>
        <p:blipFill>
          <a:blip r:embed="rId2"/>
          <a:stretch/>
        </p:blipFill>
        <p:spPr>
          <a:xfrm>
            <a:off x="5796000" y="3535200"/>
            <a:ext cx="3168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entrio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ntrioles are found in all animal cells, protoctists bu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t in higher plant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found outside the nucleus in a region of the cytoplasm called the centros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se have a 9 + 2 microtubular arrangement when viewed in cross-sec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nsist of two hollow cylinders positioned at right angles to each 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the regions from which the spindle fibres emerge during cell division. Centrioles migrate to opposite ends of the nucleus and molecules of tubulin (a dimer protein with a larg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lecular weight) polymerise to form the spind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hlrplat3-50"/>
          <p:cNvPicPr/>
          <p:nvPr/>
        </p:nvPicPr>
        <p:blipFill>
          <a:blip r:embed="rId1"/>
          <a:stretch/>
        </p:blipFill>
        <p:spPr>
          <a:xfrm>
            <a:off x="324000" y="333360"/>
            <a:ext cx="83930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em-chloroplast1"/>
          <p:cNvPicPr/>
          <p:nvPr/>
        </p:nvPicPr>
        <p:blipFill>
          <a:blip r:embed="rId1"/>
          <a:stretch/>
        </p:blipFill>
        <p:spPr>
          <a:xfrm>
            <a:off x="395280" y="2492280"/>
            <a:ext cx="3311640" cy="271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05-43A"/>
          <p:cNvPicPr/>
          <p:nvPr/>
        </p:nvPicPr>
        <p:blipFill>
          <a:blip r:embed="rId2"/>
          <a:stretch/>
        </p:blipFill>
        <p:spPr>
          <a:xfrm>
            <a:off x="4572000" y="1557360"/>
            <a:ext cx="3591000" cy="475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hloroplast (Plants on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hloroplast (Plants only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tes isolated from the rest of the cytoplasm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in eukaryotic plant cell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where reactions of photosynthesis occu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nsist of a double membrane with a fluid filled stro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roma contains ribosomes, lipid, circular DNA and st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hylakoids (stack of pennies) form the granum and house the photosynthetic pig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hylakoids are adapted to form a large surface area to trap l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in function is to manufacture reduced nicotinamide adenine dinucleotide phosphate (NADP.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TP in the light dependent reactions, to use in the light independent reactions to fix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to a storage carbohydrate (Starch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nimal4"/>
          <p:cNvPicPr/>
          <p:nvPr/>
        </p:nvPicPr>
        <p:blipFill>
          <a:blip r:embed="rId1"/>
          <a:stretch/>
        </p:blipFill>
        <p:spPr>
          <a:xfrm>
            <a:off x="826920" y="836640"/>
            <a:ext cx="7777440" cy="5545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03640" y="26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nimal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684360" y="803160"/>
            <a:ext cx="8092440" cy="6054840"/>
            <a:chOff x="684360" y="803160"/>
            <a:chExt cx="8092440" cy="6054840"/>
          </a:xfrm>
        </p:grpSpPr>
        <p:pic>
          <p:nvPicPr>
            <p:cNvPr id="145" name="Picture 5" descr="plantvacuolesfigure1"/>
            <p:cNvPicPr/>
            <p:nvPr/>
          </p:nvPicPr>
          <p:blipFill>
            <a:blip r:embed="rId1"/>
            <a:stretch/>
          </p:blipFill>
          <p:spPr>
            <a:xfrm>
              <a:off x="684360" y="803160"/>
              <a:ext cx="453672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Colpidium_vacuoles"/>
            <p:cNvPicPr/>
            <p:nvPr/>
          </p:nvPicPr>
          <p:blipFill>
            <a:blip r:embed="rId2"/>
            <a:stretch/>
          </p:blipFill>
          <p:spPr>
            <a:xfrm>
              <a:off x="5940360" y="876240"/>
              <a:ext cx="239976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echaff_vacuoles_large"/>
            <p:cNvPicPr/>
            <p:nvPr/>
          </p:nvPicPr>
          <p:blipFill>
            <a:blip r:embed="rId3"/>
            <a:stretch/>
          </p:blipFill>
          <p:spPr>
            <a:xfrm>
              <a:off x="5653080" y="3108240"/>
              <a:ext cx="3123720" cy="374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ctangle 11"/>
          <p:cNvSpPr/>
          <p:nvPr/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Permanent Vacuo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Permanent Vacuo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include numerous small vesicles found in animal cells (food vacuoles) and a large central cavity surrounded by a single membrane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he tonopla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in plant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animal cells vacuoles are a temporary store of food and secre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plants the permanent vacuole is a store of amino acids, carbohydrates and lipids (mainly oils). They also store tannins and other substances that comprise cell s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ell sap provides an osmotic system which plants can alter to move water in an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tructural components of the cel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are the structural elements of the cell required for protection, shape, boundary layers and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llulos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ytoskel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lagella and ci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sma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ellulose cell wa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ell wall consists of cellulose microfibrils embedded in a polysaccharide matri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ell wall provides strength and support and also permits the movement of water from cell to cell via the plasmodesm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cellwallfigure1"/>
          <p:cNvPicPr/>
          <p:nvPr/>
        </p:nvPicPr>
        <p:blipFill>
          <a:blip r:embed="rId1"/>
          <a:stretch/>
        </p:blipFill>
        <p:spPr>
          <a:xfrm>
            <a:off x="4716360" y="2492280"/>
            <a:ext cx="4257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429000" y="2286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lasmodesm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932360" y="1844640"/>
            <a:ext cx="31669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gaps in the cell wall that allow neighbouring cells to link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continuation of </a:t>
            </a:r>
            <a:r>
              <a:rPr b="0" lang="en-GB" sz="2400" spc="-1" strike="noStrike" u="sng">
                <a:solidFill>
                  <a:srgbClr val="00ccff"/>
                </a:solidFill>
                <a:uFillTx/>
                <a:latin typeface="Arial"/>
                <a:hlinkClick r:id="rId1" action="ppaction://hlinksldjump"/>
              </a:rPr>
              <a:t>cytoplas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cell to cell and the </a:t>
            </a:r>
            <a:r>
              <a:rPr b="0" lang="en-GB" sz="24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endoplasmic reticulu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lso be lin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903" descr="10"/>
          <p:cNvPicPr/>
          <p:nvPr/>
        </p:nvPicPr>
        <p:blipFill>
          <a:blip r:embed="rId3"/>
          <a:stretch/>
        </p:blipFill>
        <p:spPr>
          <a:xfrm>
            <a:off x="684360" y="1341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05" descr="4_22plasmodesmata"/>
          <p:cNvPicPr/>
          <p:nvPr/>
        </p:nvPicPr>
        <p:blipFill>
          <a:blip r:embed="rId4"/>
          <a:stretch/>
        </p:blipFill>
        <p:spPr>
          <a:xfrm>
            <a:off x="971640" y="4149720"/>
            <a:ext cx="2950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ytoskeleton"/>
          <p:cNvPicPr/>
          <p:nvPr/>
        </p:nvPicPr>
        <p:blipFill>
          <a:blip r:embed="rId1"/>
          <a:stretch/>
        </p:blipFill>
        <p:spPr>
          <a:xfrm>
            <a:off x="324000" y="2332080"/>
            <a:ext cx="4464000" cy="39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ytoskeleton"/>
          <p:cNvPicPr/>
          <p:nvPr/>
        </p:nvPicPr>
        <p:blipFill>
          <a:blip r:embed="rId2"/>
          <a:stretch/>
        </p:blipFill>
        <p:spPr>
          <a:xfrm>
            <a:off x="5003640" y="189000"/>
            <a:ext cx="387684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8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ytoskel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Picture 6" descr="weisel1"/>
          <p:cNvPicPr/>
          <p:nvPr/>
        </p:nvPicPr>
        <p:blipFill>
          <a:blip r:embed="rId3"/>
          <a:stretch/>
        </p:blipFill>
        <p:spPr>
          <a:xfrm>
            <a:off x="5292720" y="3213000"/>
            <a:ext cx="3333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ytoskel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ytoskeleton is an internal network of protein fibres which helps to keep the cell shape. There are three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actin filaments are able to move against each other and can cause the cell to move (WBC) or move organelles a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ermediate filaments help provide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rotubules are cylinders made from a protein called tubulin. Microtubule motors on the tubulin use ATP for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chromosomes during mit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vesicles from ER to golgi bo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lagella and cil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th have the same structure but cilia are shorter and tend to occur in greater numbers (flagella 1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agella also tend to move the entire cell (sperm) cilia ten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eep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bstances and mu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ch consists of a cylinder with a 9 + 2 arrangement of microtubules which use ATP as a source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7" descr="flagella"/>
          <p:cNvPicPr/>
          <p:nvPr/>
        </p:nvPicPr>
        <p:blipFill>
          <a:blip r:embed="rId1"/>
          <a:stretch/>
        </p:blipFill>
        <p:spPr>
          <a:xfrm>
            <a:off x="5292720" y="1197000"/>
            <a:ext cx="3381480" cy="2666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overmed"/>
          <p:cNvPicPr/>
          <p:nvPr/>
        </p:nvPicPr>
        <p:blipFill>
          <a:blip r:embed="rId2"/>
          <a:stretch/>
        </p:blipFill>
        <p:spPr>
          <a:xfrm>
            <a:off x="6877080" y="4076640"/>
            <a:ext cx="1776240" cy="226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C0088473-Abnormal_sperm,_SEM-SPL"/>
          <p:cNvPicPr/>
          <p:nvPr/>
        </p:nvPicPr>
        <p:blipFill>
          <a:blip r:embed="rId3"/>
          <a:stretch/>
        </p:blipFill>
        <p:spPr>
          <a:xfrm>
            <a:off x="4788000" y="4365720"/>
            <a:ext cx="18000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ell membr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unction of the plasma membra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ccur around the cell and determine what enters and leaves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ccur around organelles isolating enzymes within the organ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thin organelles providing  a large surface area for the attachment of enzy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a transport system within the cell. e.g ves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85960" y="611352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e structure of the plasma cell membrane will be studied in section 1.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ytopla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plasm outside the organelles is called the cytos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sol is a complex mixture of </a:t>
            </a:r>
            <a:r>
              <a:rPr b="0" lang="en-GB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cytoskeleton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laments, dissolved molecules, and water that fills much of the volume of a cel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sol is the site of glycolysis (respi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-02_AnimalCell(NL-Small)"/>
          <p:cNvPicPr/>
          <p:nvPr/>
        </p:nvPicPr>
        <p:blipFill>
          <a:blip r:embed="rId1"/>
          <a:stretch/>
        </p:blipFill>
        <p:spPr>
          <a:xfrm>
            <a:off x="1042920" y="692280"/>
            <a:ext cx="6842160" cy="5840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1928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 eukaryotic animal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16000" y="1341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84720" y="5157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87280" y="5877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580000" y="9079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ugh 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300720" y="1773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72360" y="31417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mooth 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372360" y="4653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1"/>
          <p:cNvSpPr/>
          <p:nvPr/>
        </p:nvSpPr>
        <p:spPr>
          <a:xfrm flipV="1">
            <a:off x="1692360" y="4652640"/>
            <a:ext cx="86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979640" y="1700280"/>
            <a:ext cx="1297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1979640" y="1700280"/>
            <a:ext cx="151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4"/>
          <p:cNvSpPr/>
          <p:nvPr/>
        </p:nvSpPr>
        <p:spPr>
          <a:xfrm flipH="1">
            <a:off x="4500720" y="1125360"/>
            <a:ext cx="1079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5435280" y="198900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5651640" y="3357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7"/>
          <p:cNvSpPr/>
          <p:nvPr/>
        </p:nvSpPr>
        <p:spPr>
          <a:xfrm flipH="1" flipV="1">
            <a:off x="5724360" y="4797000"/>
            <a:ext cx="648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8"/>
          <p:cNvSpPr/>
          <p:nvPr/>
        </p:nvSpPr>
        <p:spPr>
          <a:xfrm flipH="1" flipV="1">
            <a:off x="4788000" y="5229000"/>
            <a:ext cx="129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709560" y="1433520"/>
            <a:ext cx="8433720" cy="4819680"/>
            <a:chOff x="709560" y="1433520"/>
            <a:chExt cx="8433720" cy="4819680"/>
          </a:xfrm>
        </p:grpSpPr>
        <p:grpSp>
          <p:nvGrpSpPr>
            <p:cNvPr id="177" name="Group 3"/>
            <p:cNvGrpSpPr/>
            <p:nvPr/>
          </p:nvGrpSpPr>
          <p:grpSpPr>
            <a:xfrm>
              <a:off x="709560" y="1433520"/>
              <a:ext cx="7726320" cy="4549680"/>
              <a:chOff x="709560" y="1433520"/>
              <a:chExt cx="7726320" cy="4549680"/>
            </a:xfrm>
          </p:grpSpPr>
          <p:pic>
            <p:nvPicPr>
              <p:cNvPr id="178" name="Picture 4" descr="plantanimsusx"/>
              <p:cNvPicPr/>
              <p:nvPr/>
            </p:nvPicPr>
            <p:blipFill>
              <a:blip r:embed="rId1"/>
              <a:stretch/>
            </p:blipFill>
            <p:spPr>
              <a:xfrm>
                <a:off x="709560" y="1433520"/>
                <a:ext cx="7726320" cy="400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" name="Group 5"/>
              <p:cNvGrpSpPr/>
              <p:nvPr/>
            </p:nvGrpSpPr>
            <p:grpSpPr>
              <a:xfrm>
                <a:off x="1218240" y="5613480"/>
                <a:ext cx="5811120" cy="369720"/>
                <a:chOff x="1218240" y="5613480"/>
                <a:chExt cx="5811120" cy="369720"/>
              </a:xfrm>
            </p:grpSpPr>
            <p:sp>
              <p:nvSpPr>
                <p:cNvPr id="180" name="Text Box 6"/>
                <p:cNvSpPr/>
                <p:nvPr/>
              </p:nvSpPr>
              <p:spPr>
                <a:xfrm>
                  <a:off x="1218240" y="5613480"/>
                  <a:ext cx="1811520" cy="3682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660033"/>
                      </a:solidFill>
                      <a:latin typeface="Times New Roman"/>
                    </a:rPr>
                    <a:t>ANIMAL CE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Text Box 7"/>
                <p:cNvSpPr/>
                <p:nvPr/>
              </p:nvSpPr>
              <p:spPr>
                <a:xfrm>
                  <a:off x="5394600" y="5614920"/>
                  <a:ext cx="1634760" cy="3682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660033"/>
                      </a:solidFill>
                      <a:latin typeface="Times New Roman"/>
                    </a:rPr>
                    <a:t>PLANT CE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2" name="Text Box 8"/>
            <p:cNvSpPr/>
            <p:nvPr/>
          </p:nvSpPr>
          <p:spPr>
            <a:xfrm>
              <a:off x="7141320" y="5429160"/>
              <a:ext cx="200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Courtesy of Dr. Juli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Thorpe – EM &amp; FACS Lab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Biological Scienc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University Of Sussex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546560" y="33336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nt and animal cells are eukaryotic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187640" y="1204920"/>
            <a:ext cx="7805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th types of cell possess characteristic organel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crotub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28920" y="3629160"/>
            <a:ext cx="78861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imes New Roman"/>
              </a:rPr>
              <a:t>Differences between mature plant and animal cell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1400040" y="4437000"/>
            <a:ext cx="6336000" cy="1326240"/>
            <a:chOff x="1400040" y="4437000"/>
            <a:chExt cx="6336000" cy="1326240"/>
          </a:xfrm>
        </p:grpSpPr>
        <p:sp>
          <p:nvSpPr>
            <p:cNvPr id="187" name="Text Box 7"/>
            <p:cNvSpPr/>
            <p:nvPr/>
          </p:nvSpPr>
          <p:spPr>
            <a:xfrm>
              <a:off x="1400040" y="4449600"/>
              <a:ext cx="4651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LANT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ellulose cell wal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arge vacuoles that store cell sap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hloroplasts in photosynthetic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5661000" y="4437000"/>
              <a:ext cx="207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NIMAL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icrovilli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entriol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vision of labou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relationship between organel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DNA in the nucleus contains the code to produce the protein. A gene on the DNA will be cop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ode will b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nscib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y m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RNA attaches to the ribosome (free or on R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tein will be made using t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assembled protein inside the RER will be pinched off into a vesicle and transported to the golgi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olgi will package the protein and maybe modif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other vesicle will be pinched off the golgi and moved to cell surface for exocyt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578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Division of labour</a:t>
            </a:r>
            <a:br>
              <a:rPr sz="3200"/>
            </a:b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How organelles work togethe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" name="Picture 5" descr="figurea6"/>
          <p:cNvPicPr/>
          <p:nvPr/>
        </p:nvPicPr>
        <p:blipFill>
          <a:blip r:embed="rId1"/>
          <a:stretch/>
        </p:blipFill>
        <p:spPr>
          <a:xfrm>
            <a:off x="179280" y="0"/>
            <a:ext cx="5329440" cy="394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image001"/>
          <p:cNvPicPr/>
          <p:nvPr/>
        </p:nvPicPr>
        <p:blipFill>
          <a:blip r:embed="rId2"/>
          <a:stretch/>
        </p:blipFill>
        <p:spPr>
          <a:xfrm>
            <a:off x="5543640" y="3554280"/>
            <a:ext cx="3600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lant3"/>
          <p:cNvPicPr/>
          <p:nvPr/>
        </p:nvPicPr>
        <p:blipFill>
          <a:blip r:embed="rId1"/>
          <a:stretch/>
        </p:blipFill>
        <p:spPr>
          <a:xfrm>
            <a:off x="684360" y="947880"/>
            <a:ext cx="7416720" cy="5576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276720" y="26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lant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1-03_PlantCell(L-Large)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5833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84360" y="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 eukaryotic plant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Eukaryotic cellular organelles and structur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720" y="981000"/>
            <a:ext cx="36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rganel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ucle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doplasmic ret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olgi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ys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entri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8360" y="1341360"/>
            <a:ext cx="43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detailed organisation of the cell is called the cell ultra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ltrastructure of a cell can only be seen using an electron microsc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9-01_Nucleus(NL-Small)"/>
          <p:cNvPicPr/>
          <p:nvPr/>
        </p:nvPicPr>
        <p:blipFill>
          <a:blip r:embed="rId1"/>
          <a:stretch/>
        </p:blipFill>
        <p:spPr>
          <a:xfrm>
            <a:off x="395280" y="333360"/>
            <a:ext cx="7705800" cy="578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684360" y="1700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21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p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12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588000" y="342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1908000" y="407664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2"/>
          <p:cNvSpPr/>
          <p:nvPr/>
        </p:nvSpPr>
        <p:spPr>
          <a:xfrm flipH="1">
            <a:off x="5292720" y="3645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1835280" y="1989000"/>
            <a:ext cx="2016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979640" y="3284280"/>
            <a:ext cx="100800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900000" y="62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1835280" y="836640"/>
            <a:ext cx="1368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3780000" y="47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gh 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4066920" y="765000"/>
            <a:ext cx="144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ucleus controls the cells activ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contains chromatin which are coils of DNA bound to protein. During cell division the chromatin condenses to form the chromos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ucleus is surrounded by a nuclear envelope (double membrane) continuous with Rough ER. Pores allow transport of mRNA and nucleotides from the nucleus to the cytopla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ytoplasm like material in the nucleus is called nucle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region called the nucleolus synthesises riboso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7:46:19Z</dcterms:created>
  <dc:creator>DTHOMAS</dc:creator>
  <dc:description/>
  <dc:language>en-US</dc:language>
  <cp:lastModifiedBy>Sarah Preston</cp:lastModifiedBy>
  <dcterms:modified xsi:type="dcterms:W3CDTF">2014-08-29T08:04:41Z</dcterms:modified>
  <cp:revision>81</cp:revision>
  <dc:subject/>
  <dc:title>Slide 1</dc:title>
</cp:coreProperties>
</file>